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CFA2-B0E6-4122-AC3D-DC03B3FC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58E4-6BAB-4743-9B27-6F617F3E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AB5B-2BE7-4F3E-B355-32E89AE2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E0DD-5B35-428B-A931-D7F651A1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DC04-70AB-4FD7-979A-3B21B105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6ECD-65A1-4FF5-BB44-74A7335D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8459-DFC6-480C-AA66-90AAF4E9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313E-8959-4B8A-B3F7-B2E9827A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E541-E33D-4CC4-8C71-ABEF8ADE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944B-2D0C-409E-9B97-0CCB61DB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D0B6-130A-419B-A6CE-DD76196A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1358-FB25-422C-A9B3-81A817A5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01CD-A928-4081-8AEA-87376AF63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14B4-8C70-4BE4-B7C8-73A9BF154A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E606-3BA9-4454-9C20-E793FCC660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F0D0-E754-466E-9CF3-DDFBED72E2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E76B-682F-48BF-89A7-1ABBF46DE5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083E-BD8A-4CE1-A8C5-5B0F727452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A155-94EC-45F8-8E8E-FA1BD8F145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79E4-AB64-40B0-8FBF-1619B35C4F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381F-C004-4280-82E0-2A01563480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3EDF-3804-4497-AC29-583447E1AD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F48C-67FD-4097-AB18-98AF240DE3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5D4A-FD00-412D-930D-168A364C5B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2F12-F2E2-435E-8B5C-44783B692B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4T04:14:51Z</dcterms:created>
  <dc:creator>Hercules</dc:creator>
  <dc:description/>
  <dc:language>en-US</dc:language>
  <cp:lastModifiedBy>Hercules</cp:lastModifiedBy>
  <dcterms:modified xsi:type="dcterms:W3CDTF">2003-07-04T10:40:36Z</dcterms:modified>
  <cp:revision>3</cp:revision>
  <dc:subject/>
  <dc:title>Diapositiva 1</dc:title>
</cp:coreProperties>
</file>